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116-876A-4FE1-A86E-D5D33691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A4B-87A6-456E-943A-3533779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97B-510D-4776-A69D-3F3F5742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611-D49D-4515-90BF-8AFAD454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891-3FF4-47A0-98EB-8A6578D4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2FE-3236-47AA-A51B-203F43B3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F83-BE0A-4700-A68D-D5776043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6E3-C9E6-4DF8-BCE9-90E39767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B39-D6BE-4325-A1C6-7A735BF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961-5A18-40AB-839C-42C9AC8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CBE-B396-4088-BEE2-7306EBBD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838-CA59-438B-9C0C-D72070D5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1915-905B-4CCE-B7AE-809518831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77320" cy="39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Unit 5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Pass me the milk, plea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Section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76" name="矩形标注 6"/>
          <p:cNvSpPr/>
          <p:nvPr/>
        </p:nvSpPr>
        <p:spPr>
          <a:xfrm>
            <a:off x="461880" y="380880"/>
            <a:ext cx="7615440" cy="177480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ice-cream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标注 7"/>
          <p:cNvSpPr/>
          <p:nvPr/>
        </p:nvSpPr>
        <p:spPr>
          <a:xfrm>
            <a:off x="4402080" y="2693880"/>
            <a:ext cx="4284720" cy="97812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2325600" y="3208320"/>
            <a:ext cx="19400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81" name="矩形标注 6"/>
          <p:cNvSpPr/>
          <p:nvPr/>
        </p:nvSpPr>
        <p:spPr>
          <a:xfrm>
            <a:off x="461880" y="228600"/>
            <a:ext cx="5024520" cy="192708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cups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标注 7"/>
          <p:cNvSpPr/>
          <p:nvPr/>
        </p:nvSpPr>
        <p:spPr>
          <a:xfrm>
            <a:off x="4402080" y="2693880"/>
            <a:ext cx="4284720" cy="97812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3"/>
          <a:srcRect l="17679" t="12292" r="17087" b="18192"/>
          <a:stretch/>
        </p:blipFill>
        <p:spPr>
          <a:xfrm>
            <a:off x="2386080" y="3571920"/>
            <a:ext cx="17874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86" name="矩形标注 6"/>
          <p:cNvSpPr/>
          <p:nvPr/>
        </p:nvSpPr>
        <p:spPr>
          <a:xfrm>
            <a:off x="461880" y="228600"/>
            <a:ext cx="4643640" cy="192708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book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标注 7"/>
          <p:cNvSpPr/>
          <p:nvPr/>
        </p:nvSpPr>
        <p:spPr>
          <a:xfrm>
            <a:off x="4402080" y="2693880"/>
            <a:ext cx="4284720" cy="97812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3"/>
          <a:srcRect l="19523" t="22037" r="20635" b="14595"/>
          <a:stretch/>
        </p:blipFill>
        <p:spPr>
          <a:xfrm>
            <a:off x="2209680" y="3606840"/>
            <a:ext cx="18622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矩形标注 6"/>
          <p:cNvSpPr/>
          <p:nvPr/>
        </p:nvSpPr>
        <p:spPr>
          <a:xfrm>
            <a:off x="352440" y="380880"/>
            <a:ext cx="4829040" cy="178920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box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标注 7"/>
          <p:cNvSpPr/>
          <p:nvPr/>
        </p:nvSpPr>
        <p:spPr>
          <a:xfrm>
            <a:off x="4402080" y="2693880"/>
            <a:ext cx="4284720" cy="97812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rcRect l="0" t="0" r="0" b="8028"/>
          <a:stretch/>
        </p:blipFill>
        <p:spPr>
          <a:xfrm>
            <a:off x="2219400" y="3527280"/>
            <a:ext cx="1901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矩形标注 6"/>
          <p:cNvSpPr/>
          <p:nvPr/>
        </p:nvSpPr>
        <p:spPr>
          <a:xfrm>
            <a:off x="461880" y="228600"/>
            <a:ext cx="5481720" cy="192708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candies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标注 7"/>
          <p:cNvSpPr/>
          <p:nvPr/>
        </p:nvSpPr>
        <p:spPr>
          <a:xfrm>
            <a:off x="4402080" y="2693880"/>
            <a:ext cx="4208400" cy="97812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286000" y="4057560"/>
            <a:ext cx="17352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101" name="矩形标注 6"/>
          <p:cNvSpPr/>
          <p:nvPr/>
        </p:nvSpPr>
        <p:spPr>
          <a:xfrm>
            <a:off x="461880" y="228600"/>
            <a:ext cx="4795920" cy="192708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eraser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标注 7"/>
          <p:cNvSpPr/>
          <p:nvPr/>
        </p:nvSpPr>
        <p:spPr>
          <a:xfrm>
            <a:off x="4402080" y="2693880"/>
            <a:ext cx="4208400" cy="97812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3"/>
          <a:srcRect l="0" t="0" r="0" b="6020"/>
          <a:stretch/>
        </p:blipFill>
        <p:spPr>
          <a:xfrm>
            <a:off x="2362320" y="3182760"/>
            <a:ext cx="181296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标注 6"/>
          <p:cNvSpPr/>
          <p:nvPr/>
        </p:nvSpPr>
        <p:spPr>
          <a:xfrm>
            <a:off x="3886200" y="2971800"/>
            <a:ext cx="3728880" cy="1066680"/>
          </a:xfrm>
          <a:prstGeom prst="wedgeRectCallout">
            <a:avLst>
              <a:gd name="adj1" fmla="val -33314"/>
              <a:gd name="adj2" fmla="val 7754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标注 7"/>
          <p:cNvSpPr/>
          <p:nvPr/>
        </p:nvSpPr>
        <p:spPr>
          <a:xfrm>
            <a:off x="685800" y="990720"/>
            <a:ext cx="4419720" cy="977760"/>
          </a:xfrm>
          <a:prstGeom prst="wedgeRectCallout">
            <a:avLst>
              <a:gd name="adj1" fmla="val -30592"/>
              <a:gd name="adj2" fmla="val 856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"/>
          <a:srcRect l="43811" t="18068" r="28096" b="0"/>
          <a:stretch/>
        </p:blipFill>
        <p:spPr>
          <a:xfrm>
            <a:off x="1143000" y="2701800"/>
            <a:ext cx="25686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矩形标注 2"/>
          <p:cNvSpPr/>
          <p:nvPr/>
        </p:nvSpPr>
        <p:spPr>
          <a:xfrm>
            <a:off x="3908520" y="4568760"/>
            <a:ext cx="4876560" cy="1067040"/>
          </a:xfrm>
          <a:prstGeom prst="wedgeRectCallout">
            <a:avLst>
              <a:gd name="adj1" fmla="val -29342"/>
              <a:gd name="adj2" fmla="val 9337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  <a:ea typeface="宋体"/>
              </a:rPr>
              <a:t>You’re wel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4572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将重点词汇每个抄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遍，重点句型每个抄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同桌将本课对话进行多次操练，直至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矩形 3" descr=""/>
          <p:cNvPicPr/>
          <p:nvPr/>
        </p:nvPicPr>
        <p:blipFill>
          <a:blip r:embed="rId1"/>
          <a:stretch/>
        </p:blipFill>
        <p:spPr>
          <a:xfrm>
            <a:off x="1195560" y="2968560"/>
            <a:ext cx="67528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连线</a:t>
            </a:r>
            <a:br>
              <a:rPr sz="9600"/>
            </a:br>
            <a:r>
              <a:rPr b="0" lang="en-US" sz="9600" spc="-1" strike="noStrike">
                <a:solidFill>
                  <a:srgbClr val="c00000"/>
                </a:solidFill>
                <a:latin typeface="Arial"/>
                <a:ea typeface="宋体"/>
              </a:rPr>
              <a:t>Match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mil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wa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568840" y="3581280"/>
            <a:ext cx="1662120" cy="181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554800" y="990720"/>
            <a:ext cx="1676160" cy="203652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5"/>
          <p:cNvSpPr/>
          <p:nvPr/>
        </p:nvSpPr>
        <p:spPr>
          <a:xfrm>
            <a:off x="2514600" y="16002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7"/>
          <p:cNvSpPr/>
          <p:nvPr/>
        </p:nvSpPr>
        <p:spPr>
          <a:xfrm flipV="1">
            <a:off x="3276720" y="2007720"/>
            <a:ext cx="190476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93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bo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ice-cre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5"/>
          <p:cNvSpPr/>
          <p:nvPr/>
        </p:nvSpPr>
        <p:spPr>
          <a:xfrm>
            <a:off x="2362320" y="1523880"/>
            <a:ext cx="302256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7"/>
          <p:cNvSpPr/>
          <p:nvPr/>
        </p:nvSpPr>
        <p:spPr>
          <a:xfrm flipV="1">
            <a:off x="4648320" y="2008080"/>
            <a:ext cx="533160" cy="16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565600" y="1143000"/>
            <a:ext cx="1665360" cy="179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0" t="0" r="0" b="10709"/>
          <a:stretch/>
        </p:blipFill>
        <p:spPr>
          <a:xfrm>
            <a:off x="5565600" y="3200400"/>
            <a:ext cx="1665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penc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can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5"/>
          <p:cNvSpPr/>
          <p:nvPr/>
        </p:nvSpPr>
        <p:spPr>
          <a:xfrm>
            <a:off x="2514600" y="1600200"/>
            <a:ext cx="281952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7"/>
          <p:cNvSpPr/>
          <p:nvPr/>
        </p:nvSpPr>
        <p:spPr>
          <a:xfrm flipV="1">
            <a:off x="3214800" y="2007720"/>
            <a:ext cx="190476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45080" y="1090440"/>
            <a:ext cx="2305080" cy="1895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5545080" y="3610080"/>
            <a:ext cx="23796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对话练习</a:t>
            </a:r>
            <a:br>
              <a:rPr sz="6600"/>
            </a:br>
            <a:r>
              <a:rPr b="0" lang="en-US" sz="6600" spc="-1" strike="noStrike">
                <a:solidFill>
                  <a:srgbClr val="c00000"/>
                </a:solidFill>
                <a:latin typeface="Arial"/>
                <a:ea typeface="宋体"/>
              </a:rPr>
              <a:t>Dialogue Practice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矩形标注 6"/>
          <p:cNvSpPr/>
          <p:nvPr/>
        </p:nvSpPr>
        <p:spPr>
          <a:xfrm>
            <a:off x="1095480" y="457200"/>
            <a:ext cx="4647960" cy="1698480"/>
          </a:xfrm>
          <a:prstGeom prst="wedgeRectCallout">
            <a:avLst>
              <a:gd name="adj1" fmla="val -31402"/>
              <a:gd name="adj2" fmla="val 769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milk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标注 7"/>
          <p:cNvSpPr/>
          <p:nvPr/>
        </p:nvSpPr>
        <p:spPr>
          <a:xfrm>
            <a:off x="4191120" y="2374920"/>
            <a:ext cx="4343400" cy="133200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2319480" y="3701880"/>
            <a:ext cx="18288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66" name="矩形标注 6"/>
          <p:cNvSpPr/>
          <p:nvPr/>
        </p:nvSpPr>
        <p:spPr>
          <a:xfrm>
            <a:off x="1373040" y="304920"/>
            <a:ext cx="4648320" cy="1774800"/>
          </a:xfrm>
          <a:prstGeom prst="wedgeRectCallout">
            <a:avLst>
              <a:gd name="adj1" fmla="val -34212"/>
              <a:gd name="adj2" fmla="val 8423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water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标注 7"/>
          <p:cNvSpPr/>
          <p:nvPr/>
        </p:nvSpPr>
        <p:spPr>
          <a:xfrm>
            <a:off x="4191120" y="2374920"/>
            <a:ext cx="4343400" cy="133200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2395440" y="3851280"/>
            <a:ext cx="1562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4" descr=""/>
          <p:cNvPicPr/>
          <p:nvPr/>
        </p:nvPicPr>
        <p:blipFill>
          <a:blip r:embed="rId1"/>
          <a:stretch/>
        </p:blipFill>
        <p:spPr>
          <a:xfrm>
            <a:off x="4419720" y="4130640"/>
            <a:ext cx="2554200" cy="23907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" descr=""/>
          <p:cNvPicPr/>
          <p:nvPr/>
        </p:nvPicPr>
        <p:blipFill>
          <a:blip r:embed="rId2"/>
          <a:stretch/>
        </p:blipFill>
        <p:spPr>
          <a:xfrm>
            <a:off x="685800" y="2798640"/>
            <a:ext cx="1371600" cy="2664000"/>
          </a:xfrm>
          <a:prstGeom prst="rect">
            <a:avLst/>
          </a:prstGeom>
          <a:ln w="0">
            <a:noFill/>
          </a:ln>
        </p:spPr>
      </p:pic>
      <p:sp>
        <p:nvSpPr>
          <p:cNvPr id="71" name="矩形标注 6"/>
          <p:cNvSpPr/>
          <p:nvPr/>
        </p:nvSpPr>
        <p:spPr>
          <a:xfrm>
            <a:off x="1325520" y="304920"/>
            <a:ext cx="5075280" cy="1927080"/>
          </a:xfrm>
          <a:prstGeom prst="wedgeRectCallout">
            <a:avLst>
              <a:gd name="adj1" fmla="val -35148"/>
              <a:gd name="adj2" fmla="val 8658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pencil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标注 7"/>
          <p:cNvSpPr/>
          <p:nvPr/>
        </p:nvSpPr>
        <p:spPr>
          <a:xfrm>
            <a:off x="4191120" y="2374920"/>
            <a:ext cx="4343400" cy="1332000"/>
          </a:xfrm>
          <a:prstGeom prst="wedgeRectCallout">
            <a:avLst>
              <a:gd name="adj1" fmla="val -28444"/>
              <a:gd name="adj2" fmla="val 796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2144880" y="3581280"/>
            <a:ext cx="18176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8:15:24Z</dcterms:created>
  <dc:creator/>
  <dc:description/>
  <dc:language>en-US</dc:language>
  <cp:lastModifiedBy/>
  <dcterms:modified xsi:type="dcterms:W3CDTF">2015-07-28T02:06:4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